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E88-0C5B-4300-8B06-2E18F410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7E0-DA75-4BAD-B528-7F2D1D88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C3E-33F5-406B-8CAF-84DFB800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A3D-C748-45F8-A590-CC3E64A7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7A5-727E-4647-9683-24C85F4A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560-FBC0-416A-B156-D8A2B340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C90-6504-414E-AC87-DBED7EE5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7CC2-C088-495A-BE53-1C033043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B8E-FBFB-4F17-B19B-0774A1B9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1988-6AB8-4A1B-9BA9-823E7BD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BB6-BE36-4722-95F0-3E66BF30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94A-B10E-49D3-BFF5-9FF5F23D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46AF-8F8A-4ADB-8171-47A78F775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nebriatedpress.files.wordpress.com/2009/03/090405-pavlovfreudcarto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-66600"/>
            <a:ext cx="9144000" cy="6860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Calibri"/>
              </a:rPr>
              <a:t>The Garcia Effec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 Most </a:t>
            </a:r>
            <a:r>
              <a:rPr b="0" i="1" lang="en-US" sz="54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Form of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assical Conditi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s you know, mos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assical Conditioning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is similar in aspect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www.freeinfosociety.com/media/images/2460.jpg"/>
          <p:cNvPicPr/>
          <p:nvPr/>
        </p:nvPicPr>
        <p:blipFill>
          <a:blip r:embed="rId1"/>
          <a:stretch/>
        </p:blipFill>
        <p:spPr>
          <a:xfrm>
            <a:off x="6248520" y="3276720"/>
            <a:ext cx="26859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457200" y="304920"/>
            <a:ext cx="8458200" cy="496980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So…how can such a </a:t>
            </a:r>
            <a:r>
              <a:rPr b="0" i="1" lang="en-US" sz="8000" spc="-1" strike="noStrike">
                <a:solidFill>
                  <a:srgbClr val="ffffff"/>
                </a:solidFill>
                <a:latin typeface="Brush Script Std"/>
                <a:ea typeface="Arabic Typesetting"/>
              </a:rPr>
              <a:t>Wretched</a:t>
            </a:r>
            <a:r>
              <a:rPr b="0" lang="en-US" sz="8000" spc="-1" strike="noStrike">
                <a:solidFill>
                  <a:srgbClr val="ffffff"/>
                </a:solidFill>
                <a:latin typeface="Brush Script Std"/>
                <a:ea typeface="Arabic Typesetting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 type of learning actually help us?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jrossnagel\Local Settings\Temporary Internet Files\Content.IE5\1DM7IPRS\MC900151499[1].wmf"/>
          <p:cNvPicPr/>
          <p:nvPr/>
        </p:nvPicPr>
        <p:blipFill>
          <a:blip r:embed="rId1"/>
          <a:stretch/>
        </p:blipFill>
        <p:spPr>
          <a:xfrm>
            <a:off x="5334120" y="3657600"/>
            <a:ext cx="2603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0" y="0"/>
            <a:ext cx="8686800" cy="66776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Animals will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learn to </a:t>
            </a:r>
            <a:r>
              <a:rPr b="1" lang="en-US" sz="7200" spc="-1" strike="noStrike">
                <a:solidFill>
                  <a:srgbClr val="ffffff"/>
                </a:solidFill>
                <a:latin typeface="Calibri"/>
              </a:rPr>
              <a:t>NOT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eat thing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that coul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harm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them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www.petsfoto.com/wp-content/uploads/2010/06/Blue-Poison-Dart-Frog2.jpg"/>
          <p:cNvPicPr/>
          <p:nvPr/>
        </p:nvPicPr>
        <p:blipFill>
          <a:blip r:embed="rId1"/>
          <a:stretch/>
        </p:blipFill>
        <p:spPr>
          <a:xfrm>
            <a:off x="5029200" y="228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t1.gstatic.com/images?q=tbn:ANd9GcRV6kP5-TYGK0Yj4h3yZg9xdLN-jMd8Sr5QexHq5iUtVQsNRtNc"/>
          <p:cNvPicPr/>
          <p:nvPr/>
        </p:nvPicPr>
        <p:blipFill>
          <a:blip r:embed="rId2"/>
          <a:stretch/>
        </p:blipFill>
        <p:spPr>
          <a:xfrm>
            <a:off x="3200400" y="4267080"/>
            <a:ext cx="1847880" cy="246708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6"/>
          <p:cNvSpPr/>
          <p:nvPr/>
        </p:nvSpPr>
        <p:spPr>
          <a:xfrm>
            <a:off x="77760" y="-8683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77760" y="-8683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77760" y="-8683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77760" y="-8683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77760" y="-8683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untitled.bmp"/>
          <p:cNvPicPr/>
          <p:nvPr/>
        </p:nvPicPr>
        <p:blipFill>
          <a:blip r:embed="rId3"/>
          <a:stretch/>
        </p:blipFill>
        <p:spPr>
          <a:xfrm>
            <a:off x="5111640" y="4114800"/>
            <a:ext cx="3568680" cy="2581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http://t3.gstatic.com/images?q=tbn:ANd9GcTen9kbpTdsYPnsnuxOCyahvJgs54HMrM9tbVFH8rsXMMff2pX7cQ"/>
          <p:cNvPicPr/>
          <p:nvPr/>
        </p:nvPicPr>
        <p:blipFill>
          <a:blip r:embed="rId4"/>
          <a:stretch/>
        </p:blipFill>
        <p:spPr>
          <a:xfrm>
            <a:off x="6477120" y="19810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What About Human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This type of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learnin’ is indeed 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powerful stuff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ow to Make Moonshine At Home How to Make Moonshine at Home"/>
          <p:cNvPicPr/>
          <p:nvPr/>
        </p:nvPicPr>
        <p:blipFill>
          <a:blip r:embed="rId1"/>
          <a:stretch/>
        </p:blipFill>
        <p:spPr>
          <a:xfrm>
            <a:off x="6095880" y="152280"/>
            <a:ext cx="2857680" cy="376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http://www.securitymarketingguru.com/wp-content/uploads/2009/03/hillbilly-security-marketing1.jpg"/>
          <p:cNvPicPr/>
          <p:nvPr/>
        </p:nvPicPr>
        <p:blipFill>
          <a:blip r:embed="rId2"/>
          <a:stretch/>
        </p:blipFill>
        <p:spPr>
          <a:xfrm>
            <a:off x="7010280" y="4724280"/>
            <a:ext cx="188280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0" y="3808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It tak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77933c"/>
                </a:solidFill>
                <a:latin typeface="Calibri"/>
              </a:rPr>
              <a:t>Multipl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77933c"/>
                </a:solidFill>
                <a:latin typeface="Calibri"/>
              </a:rPr>
              <a:t>Trials 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earn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Pavlov's Dog, Freud's Ca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50760"/>
            <a:ext cx="495288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80880" y="228600"/>
            <a:ext cx="8382240" cy="46659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nd this type of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earning tend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to b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forgotten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over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static.desktopnexus.com/thumbnails/205434-bigthumbnail.jpg"/>
          <p:cNvPicPr/>
          <p:nvPr/>
        </p:nvPicPr>
        <p:blipFill>
          <a:blip r:embed="rId1"/>
          <a:stretch/>
        </p:blipFill>
        <p:spPr>
          <a:xfrm>
            <a:off x="3657600" y="2209680"/>
            <a:ext cx="5199120" cy="3905280"/>
          </a:xfrm>
          <a:prstGeom prst="rect">
            <a:avLst/>
          </a:prstGeom>
          <a:ln w="0">
            <a:noFill/>
          </a:ln>
        </p:spPr>
      </p:pic>
      <p:sp>
        <p:nvSpPr>
          <p:cNvPr id="47" name="Oval 3"/>
          <p:cNvSpPr/>
          <p:nvPr/>
        </p:nvSpPr>
        <p:spPr>
          <a:xfrm>
            <a:off x="5562720" y="685800"/>
            <a:ext cx="3429000" cy="1981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6781680" y="2666880"/>
            <a:ext cx="228600" cy="152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6705720" y="2895480"/>
            <a:ext cx="228600" cy="152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5943600" y="99072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’s with that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0" y="228600"/>
            <a:ext cx="914400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BUT NOT WITH THE </a:t>
            </a: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GARCIA EFFECT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It’s a </a:t>
            </a: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rebel</a:t>
            </a: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…i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breaks both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rule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www.askthetrucker.com/wp-content/uploads/2010/03/little-tough-guy.jpg"/>
          <p:cNvPicPr/>
          <p:nvPr/>
        </p:nvPicPr>
        <p:blipFill>
          <a:blip r:embed="rId1"/>
          <a:stretch/>
        </p:blipFill>
        <p:spPr>
          <a:xfrm>
            <a:off x="5943600" y="2971800"/>
            <a:ext cx="3003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0" y="380880"/>
            <a:ext cx="8610480" cy="4299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IRST…You Learn After On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N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R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www.tumyeto.com/images/uploaded/butcher-barfing.jpg"/>
          <p:cNvPicPr/>
          <p:nvPr/>
        </p:nvPicPr>
        <p:blipFill>
          <a:blip r:embed="rId1"/>
          <a:stretch/>
        </p:blipFill>
        <p:spPr>
          <a:xfrm>
            <a:off x="2666880" y="1676520"/>
            <a:ext cx="6185160" cy="4194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2438280" y="59436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  more KFC….bleah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27432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 Pola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6"/>
          <p:cNvCxnSpPr/>
          <p:nvPr/>
        </p:nvCxnSpPr>
        <p:spPr>
          <a:xfrm>
            <a:off x="3200400" y="2590920"/>
            <a:ext cx="129600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0" y="380880"/>
            <a:ext cx="8610480" cy="4299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IRST…You Learn After On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N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R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www.tumyeto.com/images/uploaded/butcher-barfing.jpg"/>
          <p:cNvPicPr/>
          <p:nvPr/>
        </p:nvPicPr>
        <p:blipFill>
          <a:blip r:embed="rId1"/>
          <a:stretch/>
        </p:blipFill>
        <p:spPr>
          <a:xfrm>
            <a:off x="2666880" y="1676520"/>
            <a:ext cx="6185160" cy="4194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2438280" y="59436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  more KFC….bleah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7432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 Pola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6"/>
          <p:cNvCxnSpPr/>
          <p:nvPr/>
        </p:nvCxnSpPr>
        <p:spPr>
          <a:xfrm>
            <a:off x="3200400" y="2590920"/>
            <a:ext cx="129600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0" y="380880"/>
            <a:ext cx="8610480" cy="4299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IRST…You Learn After On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N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R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www.tumyeto.com/images/uploaded/butcher-barfing.jpg"/>
          <p:cNvPicPr/>
          <p:nvPr/>
        </p:nvPicPr>
        <p:blipFill>
          <a:blip r:embed="rId1"/>
          <a:stretch/>
        </p:blipFill>
        <p:spPr>
          <a:xfrm>
            <a:off x="2666880" y="1676520"/>
            <a:ext cx="6185160" cy="4194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0" y="6149880"/>
            <a:ext cx="10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  more Ham and Cheese sandwich….bleah!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74320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n Hoo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traight Arrow Connector 6"/>
          <p:cNvCxnSpPr/>
          <p:nvPr/>
        </p:nvCxnSpPr>
        <p:spPr>
          <a:xfrm>
            <a:off x="3200400" y="2590920"/>
            <a:ext cx="129600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0" y="380880"/>
            <a:ext cx="8610480" cy="42994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FIRST…You Learn After On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N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R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.tumyeto.com/images/uploaded/butcher-barfing.jpg"/>
          <p:cNvPicPr/>
          <p:nvPr/>
        </p:nvPicPr>
        <p:blipFill>
          <a:blip r:embed="rId1"/>
          <a:stretch/>
        </p:blipFill>
        <p:spPr>
          <a:xfrm>
            <a:off x="2666880" y="1676520"/>
            <a:ext cx="6185160" cy="4194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0" y="5867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ndma, that’s not V8 Fusion!”…blehh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743200" y="1905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rew Laco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6"/>
          <p:cNvCxnSpPr/>
          <p:nvPr/>
        </p:nvCxnSpPr>
        <p:spPr>
          <a:xfrm>
            <a:off x="3200400" y="2590920"/>
            <a:ext cx="129600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t2.gstatic.com/images?q=tbn:ANd9GcQ8JAeQoxTuUdhGPgAHa_ec__8y2rcovdvVnWC1qQ_i0Wdt6WJP"/>
          <p:cNvPicPr/>
          <p:nvPr/>
        </p:nvPicPr>
        <p:blipFill>
          <a:blip r:embed="rId1"/>
          <a:stretch/>
        </p:blipFill>
        <p:spPr>
          <a:xfrm>
            <a:off x="6477120" y="3124080"/>
            <a:ext cx="2104920" cy="2171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t1.gstatic.com/images?q=tbn:ANd9GcTqhfvP_fheQb-Js4RP3zeHgyi1RbTPDXSbw5Tb5NphvxsIXDmm"/>
          <p:cNvPicPr/>
          <p:nvPr/>
        </p:nvPicPr>
        <p:blipFill>
          <a:blip r:embed="rId2"/>
          <a:stretch/>
        </p:blipFill>
        <p:spPr>
          <a:xfrm>
            <a:off x="228600" y="2133720"/>
            <a:ext cx="2104920" cy="2171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t0.gstatic.com/images?q=tbn:ANd9GcRCrY2f1Y07AcWTmd3NvGK5kWl_e9kQrxizwDtYSV5oyAPd6380"/>
          <p:cNvPicPr/>
          <p:nvPr/>
        </p:nvPicPr>
        <p:blipFill>
          <a:blip r:embed="rId3"/>
          <a:stretch/>
        </p:blipFill>
        <p:spPr>
          <a:xfrm>
            <a:off x="5791320" y="990720"/>
            <a:ext cx="266688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http://t3.gstatic.com/images?q=tbn:ANd9GcTeX5rTQSwpMD_HUTleTcZT-Wuv_gU1Owzcbelw_QPI4E3gxqLy"/>
          <p:cNvPicPr/>
          <p:nvPr/>
        </p:nvPicPr>
        <p:blipFill>
          <a:blip r:embed="rId4"/>
          <a:stretch/>
        </p:blipFill>
        <p:spPr>
          <a:xfrm>
            <a:off x="2590920" y="3200400"/>
            <a:ext cx="2946240" cy="2209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http://t1.gstatic.com/images?q=tbn:ANd9GcTsfm6VqRhE3tDhgr5qo-BEgzmMMl1jUxoVepaXUOleh5caUXjnMA"/>
          <p:cNvPicPr/>
          <p:nvPr/>
        </p:nvPicPr>
        <p:blipFill>
          <a:blip r:embed="rId5"/>
          <a:stretch/>
        </p:blipFill>
        <p:spPr>
          <a:xfrm>
            <a:off x="685800" y="4495680"/>
            <a:ext cx="1143000" cy="1390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457200" y="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And the learning 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PERMAN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2057400" y="57150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’ll never eat  __?__ aga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3T13:47:40Z</dcterms:created>
  <dc:creator>SASD User</dc:creator>
  <dc:description/>
  <dc:language>en-US</dc:language>
  <cp:lastModifiedBy>John Hampton</cp:lastModifiedBy>
  <dcterms:modified xsi:type="dcterms:W3CDTF">2012-03-12T14:49:45Z</dcterms:modified>
  <cp:revision>12</cp:revision>
  <dc:subject/>
  <dc:title>Slide 1</dc:title>
</cp:coreProperties>
</file>